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108-39D1-4349-9FF0-CDD483EC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15B-E9BA-4899-81A5-4EC7FAB0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686D-96A7-407B-B530-B5292A6E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C9D-4DE2-466B-BA04-27166976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0A6-26F3-4273-89B3-35C0F2DD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B6C-78D0-4EDF-AE7B-916A3377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141-442E-4400-AD03-DA173B79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938-D19F-4C57-8296-3054EFFB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FF9-50B6-4BAB-BFD5-44A7DCA6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3F4D-E355-48B3-988A-11EFFD0C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879-D50D-4371-907A-87EFA4BF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05D-7667-4029-90E6-8F7EA66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49FC-BF50-492A-9F87-67113B287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 D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6172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5486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48006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48006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41148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41148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4290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05920" y="34290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743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2743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2057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2057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stinat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 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6858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bjectif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Ém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6858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es/Mo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és de dif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3716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13716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1:27Z</dcterms:modified>
  <cp:revision>71</cp:revision>
  <dc:subject/>
  <dc:title>Contrôle interne des risques</dc:title>
</cp:coreProperties>
</file>